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40C-77E0-4426-9811-C2029A57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s://pcobern.wordpress.com/2014/10/09/like-light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kyscanusa.com/how-lightning-is-creat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youtube.com/watch?v=h7c6z_3dLE4&amp;feature=youtu.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youtube.com/watch?v=Q3Awp-3CxSU&amp;feature=youtu.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to.com/city/2011/05/downtown_toronto_gets_lit_up_by_passing_stor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://globalnews.ca/news/1436370/watch-cn-tower-struck-by-lightning-during-overnight-stor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esignerysigns.com/static-cling-deca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othingnerdy.wikispaces.com/ELECTRIC+CHARGE?responseToken=76c1555177c38a90f48b9fec8e34899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ystaticguard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mazon.com/Bounce-Fresh-Fabric-Softener-Sheets/dp/B004CQ44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6CA-B6AF-4290-83CF-66200CA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CF4-C215-4EF2-830A-F10E181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EBC-1E88-4286-BC19-D0A750E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82F-A2BF-419D-9571-4F270742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883-959C-45E3-8B86-FDA871C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E9D-CD74-464E-A66E-712E383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EEF-D2C2-43F5-9446-E00F25E8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E18-B996-44FF-9C6B-B701F7E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A0E-1207-4D98-A131-AC4B8ADE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803-B38B-4E85-8D9B-3F0E9C8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6DF-8BD1-472F-AFF8-4C0B3A5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C28-E689-4B94-AC8B-0279C39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0BCD-0121-44CE-B6D8-3701A652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lobalnews.ca/news/1436370/watch-cn-tower-struck-by-lightning-during-overnight-stor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 &amp; Dis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ght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700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CN 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uses for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st M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51200" y="1981080"/>
            <a:ext cx="524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Cling De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1760" y="1981080"/>
            <a:ext cx="365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cop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82720" y="1981080"/>
            <a:ext cx="55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3:21:23Z</dcterms:created>
  <dc:creator>rubina khan</dc:creator>
  <dc:description/>
  <dc:language>en-US</dc:language>
  <cp:lastModifiedBy>rubina khan</cp:lastModifiedBy>
  <dcterms:modified xsi:type="dcterms:W3CDTF">2015-03-06T14:51:54Z</dcterms:modified>
  <cp:revision>12</cp:revision>
  <dc:subject/>
  <dc:title>Static Electricity</dc:title>
</cp:coreProperties>
</file>